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C21-1830-46D3-9825-BC4B0069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206-E8E2-4BE8-B5C1-B026536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6DE-D442-4DC4-82B1-E896FEDF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020-3077-4F2D-9107-C576A15C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FEF6-210F-468F-BF9F-F380F0F7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EBA7-4D41-4FCA-9170-A9F43DAF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12C3-5AD2-4029-8031-B0BFF1F9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DE48-134C-42F8-9941-534C51BD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7440-3BFC-4C15-9B00-25DC18E5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DF4D-15CA-4664-A4AA-D914E537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E012-039E-42B9-B551-E57D0755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318-2621-4BDF-9043-13E64263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188C-50F1-4809-BA70-FBC51568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6931-5F10-42F8-984F-7E4C7161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5DC5-AC6B-40D3-9ACE-2DB805A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FF88-6D87-4FBD-9B70-B0F1A28C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FD45-5B93-44FE-B9D3-B2F8B675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295D-2530-4918-8F6F-322B1305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735A-5EFE-423C-A714-18CC522B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CB285-17F7-49A7-BC97-B5706107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52E3-EC4D-459A-88E3-2EA79CBA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6A87-350D-4F0E-9554-E23BED83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785-2D6A-4AB5-AFD9-68EB226E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E465-C2AA-43AB-A27C-0573B6F8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9382-1F2D-487A-A552-CD9F5DAB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80B5-6E38-43CD-9F6C-53290940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37A7-F933-4C0C-9A22-6E6CC21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70A5-AC6D-4146-A6A9-D48FC179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AFDD-87C3-4051-A459-F2AB5946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7175-78BB-4EB6-BE8A-C6255EB9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378D-56BE-49FD-8F25-0784CA00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01DF-6ABF-480A-A4F5-E63B58ED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D5997-9F40-42E5-870E-74B8BEBF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1DC-3869-4094-9BA2-3FAEA4E0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9E19-7A6E-4B1A-B32E-C0E69EB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AD3D-4DDD-4BAB-8FE1-DC79FB49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1695-CF36-4770-A30C-8467CA82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F77C6-D53F-4E88-B9D9-3230D5D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96A2-E3CD-411A-9208-80EDC74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2A07-977E-4ACF-89AD-3A3E067D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4080-5C10-4797-9436-1A6DDF39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83E6-823E-48C4-9642-8412EA62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DF3C-DFF3-477C-9E1D-8EF4A966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436-C054-4A64-83C5-9654100C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976-A8B4-49F6-A9BE-362E5FA9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DDF-5D38-4B72-B7F4-4C51C93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FD1-5013-4C84-A93F-81BBF2C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F77-1073-410E-94B9-2A5C7AD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16EC-5A07-44C1-83CA-CA433813B62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32F3-4789-484E-BD0E-6CB436FDBF4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A804-38DA-4C14-82EA-FD887104655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0DA-5289-45A8-897B-05845FCB2EF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-1116000" y="-531720"/>
            <a:ext cx="11447280" cy="84312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500040" y="100008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Координа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2224440" y="2571840"/>
            <a:ext cx="438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на плоск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Основополагающий вопрос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6715080" y="250020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бы н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072040" y="4714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заблуд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500040" y="550080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лаборатории жиз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6"/>
          <p:cNvSpPr/>
          <p:nvPr/>
        </p:nvSpPr>
        <p:spPr>
          <a:xfrm>
            <a:off x="142920" y="150012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Откуда же берут начало координ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Где в практической жизни используется система координ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Проблемные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297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142920" y="2143080"/>
            <a:ext cx="4143240" cy="40719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285840" y="142920"/>
            <a:ext cx="415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Учебные вопрос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4500720" y="3286080"/>
            <a:ext cx="442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 Какие прямые называются перпендикуляр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 Что такое оси координ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 Как обозначаются ос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. Как находить точку по координат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. Как построить фигуру по координат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нтрольно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85840" y="1935000"/>
            <a:ext cx="84294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9:14:42Z</dcterms:created>
  <dc:creator>Маша</dc:creator>
  <dc:description/>
  <dc:language>en-US</dc:language>
  <cp:lastModifiedBy>26519</cp:lastModifiedBy>
  <dcterms:modified xsi:type="dcterms:W3CDTF">2010-05-28T04:54:05Z</dcterms:modified>
  <cp:revision>15</cp:revision>
  <dc:subject/>
  <dc:title>Слайд 1</dc:title>
</cp:coreProperties>
</file>